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A28-DBE2-421C-B1F1-D8E45B9C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718-9AFB-44A9-8295-5585D04C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EAE-C38F-46BC-8EC3-D788E53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364-E6CB-4BE8-A8AF-496E21EB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22-33FC-4880-9E73-E0033EC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FFA-69D6-4705-8360-2089F264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B31-4840-4AEE-AC06-B06E692C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421-317B-464F-AD46-1F0E0A8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7AA-2CDE-491F-AE6B-F82664B8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3BD-59A8-410D-B780-570F3D2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642-B594-4042-9BB1-BBDE97F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BCD-3007-4275-BDFC-099D951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D6DE6-539B-4A89-8003-62289DF10E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competing interests emerged in the U.S. during the “Era of Good Feelings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rong feeling of devotion or loyalty to one nation over others:  Patri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 that people living in a politically-defined area and sharing certain cultural characteristics share a common interest:  the Nation (different concept than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idea drives people to act in the interes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perceived nation, and sometimes to think less of those belonging to other sub-national cul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also drives people of a common ethnic grou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k self-rule in their own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 only for the interests of one part of a country (typically one's ow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 used to describe the divided regional loyalties of the North and the South, but can be used in other instances a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18129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use each term in a sentence?  (It does not have to be history relat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the Embargo of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220680"/>
            <a:ext cx="9070920" cy="7516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during the Era of Good Feelings,” the country would see the divergent forces of nationalism and sectionalism emerg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force would win out (by 1860 at least)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each of the following events increase either nationalist or sectionalist feelings (or both)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28640"/>
            <a:ext cx="937260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Clay's “American Syst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al Improvements (like the National Road, Erie Canal, railroad developme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ms-Onis Trea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velopment of textile mills in Massachusetts (by the Boston Manufacturing Company, first in Waltham, then in Lowe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spread use of Eli Whitney's 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30040"/>
            <a:ext cx="90709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ansion of the U.S. Postal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dian Remov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09:47Z</dcterms:created>
  <dc:creator/>
  <dc:description/>
  <dc:language>en-US</dc:language>
  <cp:lastModifiedBy/>
  <cp:revision>1</cp:revision>
  <dc:subject/>
  <dc:title/>
</cp:coreProperties>
</file>